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9.jpeg" ContentType="image/jpeg"/>
  <Override PartName="/ppt/media/image40.png" ContentType="image/png"/>
  <Override PartName="/ppt/media/image23.png" ContentType="image/png"/>
  <Override PartName="/ppt/media/image13.jpeg" ContentType="image/jpeg"/>
  <Override PartName="/ppt/media/image30.wmf" ContentType="image/x-wmf"/>
  <Override PartName="/ppt/media/image10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B1A-EE59-4476-84BC-D26A6D12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2280-4C06-4E8A-95B8-A25BF198F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2621-B7CB-4F9C-A959-A4535AF07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CAC-0EEC-4941-B5F6-D57F55CC89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2B7-A91D-4A22-A4C7-3AE9DEB8F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BF5-7012-4547-99C4-AF3F3764A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F121-302E-487D-94F3-238F2179C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F35-8CCC-4449-AF56-C54A8598E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106A-FC0D-489F-9D9C-F7B89C301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E26-ABFC-46E2-B3F9-A697ACB82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E3FE-98DC-41E4-B790-B76CF8C9B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11E-F4EC-464A-A3F6-9C85E56F02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F71C-94F6-483C-9CE1-A5FD1875EC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CEA6-91C6-4893-ACB6-99A035C67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E11A-E3AB-4604-93A4-81F0350B7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199-694B-4FA8-A2A6-62B3B71FF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847-88E2-4B45-A496-8E36FC729A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96C7-61F5-47E9-97DE-CA0F0A9C69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07BF-EBFE-4FCE-A3DA-1F0D10B417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49F8-A6F7-4542-86D8-4D55C28A89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D661-4510-4706-AF9F-878D9E362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478-1D1F-4FC4-8ADB-E0F1A31BC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026-337E-44BC-9183-E73C277A3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44C-E20D-4F46-BA32-8F620A24E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8FF-7200-4FA1-ABB6-57A41E420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C20D-7DEF-4915-B34A-BE7D880C01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4294-6E4B-4776-A202-30F2A3C00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F67-78F0-45AB-AFD9-D0DD7FA04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58AE-9E07-4595-9899-461970F611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BD17-E7F6-4D2C-9498-C4B052C65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7F5-BF9F-47F3-9F3D-9A7EB36AE9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812-E0DA-4245-B808-447B302C2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309-A38B-4D17-9EC9-7598F0FAC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0B0-928F-4997-9826-230FC7143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B332-5560-4B7A-9BAD-064B94F2C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47B-24FA-4E25-812D-29D99A6F1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3A18-71DE-41E7-9D0F-94960AC92E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6A8-BA9E-4719-B025-074DC338D2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2E2-6A58-4DE1-A294-1443A59487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F2C-C0CB-4AFF-B3A2-C823AF48E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2D3E-7B70-4098-ACE4-9638FA85D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A98-9333-4C17-9793-E5C66AC7FC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883-FF5F-45CA-95DB-63CA62EE5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CE1-98F0-42D6-A8D6-A556C26CA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F65-7997-4401-A0CB-155BFC7A6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631-7229-47B0-B534-945775E5C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8B8C-2629-4EEC-B4A4-7CAAAE2DC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1A9-BC26-417C-9B26-5B93ABEA0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53D-9AF2-4477-B45F-50C28CE175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87A2-56A5-42EE-A677-BD41FCDEF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34C-DBFA-46C7-A9BE-A97C68207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85F-CC4A-4D69-A296-F1AEF770AB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DD4-72BA-40ED-91EF-98BE516090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0D22-3B44-4C23-B0D7-460112C4F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C888-61D1-4D65-9FC8-2C9B2D907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6BC-404B-46DA-8D10-8D104C3F9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D82-3909-4879-87E9-24859D2DDA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20D-9A5D-4BE0-9005-34367F183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A2B-F81D-433B-ABB4-92F010EBB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1F1-927C-48F3-9202-7496406A5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0610-7591-4B96-AD4E-482618E22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D822-4868-4C7C-9D7F-93072C6D47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9AA-FE7C-4DFE-A1CA-CF2B5B231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46C-664B-4949-8354-8B818D767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91C4-F46E-449D-A26C-C69B43209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BA4-C418-42CE-9321-078E21B7E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B601-D195-4C70-A07D-74113748F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F1B-B3FB-463C-A328-AFC484AFD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A526-3FF0-4A5B-B4DD-A380636E0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400-AB52-4D8C-8FA6-4F767854C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ABBB-A930-4248-B8D8-BAB79C04E9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2502-6592-4DEB-B353-8E41563EEB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23D-FC7A-4F81-ABCE-AE775DDDC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40E-DCC2-49E1-A9E5-C2CF53D65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822-3F6C-472C-941F-9ACB2A283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5AB6-3B3A-4A8B-87A3-A5A60549E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857-208D-458B-AA8D-71DDDC3CC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B26-7121-4A99-8BEE-0CE2BC345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D5E-FD04-439F-9F64-BA9EB125B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B09-B9EF-431F-86B7-1EC47DCB0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3B5E-C4FD-445D-BED6-8D19320C5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852B-57A7-4B0F-83B4-FC5CF8B3E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A07D-5AF8-42AC-A16C-E455F8A9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22BE-0722-4F80-BA4C-8DF0DBE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E956-5918-4819-9379-5480CFE7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B4E7-D869-4418-8E0A-CDF4265A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464E-6996-4458-B1AB-B114DDCE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18B8-0AC4-430F-BB0C-3F702C07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50E-6D38-44F9-AE06-AFB545E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D71-4128-473A-8BBE-1C5A992A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CFB-79C3-4D5D-A23D-72B00755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0849-D44D-407E-A53D-C6A96FD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A63-9E9C-4F24-851C-B0781DB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6256-03CB-4659-9D9A-7D4B6676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E21A-46A2-4A1A-BF9E-49D8121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68C-8852-4996-9E59-6F5E218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A03-0BF1-4B45-98E1-9C1AB945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8C7-F2EA-46CD-AB12-E05DEB47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95E-BF4D-4F93-8C21-698EA404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FFB3-5624-4D13-95E3-ECCF471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7E95-4DEE-4117-99BC-490B6DA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4A0A-7052-4C58-8A23-6BDB5865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514B-D7A4-4C92-B913-3F2095A5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2400-3EE5-4AE0-9B8F-B8E5947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252C-9F8A-44E0-B8DD-0D9449C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490C-99D2-4C6C-8463-881A44D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9FDD-0397-423C-AD0B-12F7E4BF2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7F0-474C-4F5C-B6C3-88A9F3F26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Шеста недеља:</a:t>
            </a:r>
            <a:r>
              <a:rPr b="1" lang="sr-C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таболизам угљених хидрат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. Гликогенолиза. Глуконеогене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samo-logo"/>
          <p:cNvPicPr/>
          <p:nvPr/>
        </p:nvPicPr>
        <p:blipFill>
          <a:blip r:embed="rId1"/>
          <a:stretch/>
        </p:blipFill>
        <p:spPr>
          <a:xfrm>
            <a:off x="0" y="0"/>
            <a:ext cx="175248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763640" y="404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АСМ, Б3, шеста недељ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тедра за медицинску биохемиј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48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.Гликогенеза започињ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рилациј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 у глукозо-6-фосфат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јетри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глук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у мишићима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хекс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оба случаја неопходан 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ATP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Mg</a:t>
            </a:r>
            <a:r>
              <a:rPr b="1" lang="en-AU" sz="2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200" spc="-1" strike="noStrike">
                <a:solidFill>
                  <a:srgbClr val="a886e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+ ATP -----&gt; glucose-6-PO4 + ADP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У наредној реакцији глукозо-6-фосфат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o-1-фo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oм ензим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фoсфoглукoмутазe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6-PO4 &lt;------------&gt; Glucose –1- PO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456240" y="620640"/>
            <a:ext cx="2579760" cy="5575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153640" y="15764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g2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4000" y="319320"/>
            <a:ext cx="85914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1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трифосфат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ТП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д утицајем глукозо-1-фосфо уридилтрансферазе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ДПГ-пирофосфорил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реагују и настаје активни нуклеотид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дифосфат-глукоза</a:t>
            </a:r>
            <a:r>
              <a:rPr b="1" lang="en-AU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(УДП – ГЛУКОЗ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(UDPG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lucose 1-PO4 + UTP ---------&gt; UDP-glucose + PPi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755640" y="3429000"/>
            <a:ext cx="4608000" cy="2879280"/>
            <a:chOff x="755640" y="3429000"/>
            <a:chExt cx="4608000" cy="2879280"/>
          </a:xfrm>
        </p:grpSpPr>
        <p:pic>
          <p:nvPicPr>
            <p:cNvPr id="163" name="Picture 7" descr=""/>
            <p:cNvPicPr/>
            <p:nvPr/>
          </p:nvPicPr>
          <p:blipFill>
            <a:blip r:embed="rId1"/>
            <a:stretch/>
          </p:blipFill>
          <p:spPr>
            <a:xfrm>
              <a:off x="812880" y="3522240"/>
              <a:ext cx="431208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8"/>
            <p:cNvSpPr/>
            <p:nvPr/>
          </p:nvSpPr>
          <p:spPr>
            <a:xfrm>
              <a:off x="4326480" y="5219640"/>
              <a:ext cx="978840" cy="658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4384800" y="3522240"/>
              <a:ext cx="978840" cy="8478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755640" y="3429000"/>
              <a:ext cx="1151640" cy="1036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67" name="Picture 12" descr="glycogen_UDP_glucose-pyrophosphorylase"/>
          <p:cNvPicPr/>
          <p:nvPr/>
        </p:nvPicPr>
        <p:blipFill>
          <a:blip r:embed="rId2"/>
          <a:stretch/>
        </p:blipFill>
        <p:spPr>
          <a:xfrm>
            <a:off x="5435640" y="2924280"/>
            <a:ext cx="3311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50920" y="1011240"/>
            <a:ext cx="8642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ДП- глукоза је директни извор гликозил остатака са активисаном 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рупом 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то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синтаза (глукозил трансфер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 преноси активисани глукозил остатак на нередукујући крај гликогена и катализује настанак α-1,4-гликозидне везе, измеђ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ктивног глукозил остатка 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4 терминалне глукозе ланца гликоге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2720" y="3657600"/>
            <a:ext cx="503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09480" y="988920"/>
            <a:ext cx="8001000" cy="572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ко се молекул гликогена продужио за један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нављајућим деловањем ензим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већава се основни ланац глик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о дужине од најмањ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1 глукозил остатак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да су створе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 з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ејст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зима гранањ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а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преноси најмање 6 глукозил остатак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формир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ачв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ланца гликоге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α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,6-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зидном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везом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Захваљујућ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јству овог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ензи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икогена је изразито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ачва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00"/>
                </a:solidFill>
                <a:uFillTx/>
                <a:latin typeface="Arial"/>
              </a:rPr>
              <a:t>ГЛИКОГЕНОЛИЗА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95280" y="84924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цес разлагањ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икогена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ГЛИКОГЕНОЛИ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ј.  мобилизација депонованих молекула глукозе из гликогена је сложен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ски катализован процес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је у организму човека присутан у свим ћелијама, али га највише има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јетр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 мишићим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до 5% тежине јетре и око 0,5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-1% мишићне масе)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јетре учествује у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ржавању гликемије, док гликоген мишића служи као извор енергије самих м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ића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олиза је катализована бројним ензимима, а први у низу је фосфорилаза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, кој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раскида α-1,4-гликозидну ве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е јетре и мишића, иако имају исту функцију, донекле се разликуј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69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јетр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се јавља у два облика: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 а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н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блик,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б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неактивни облик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 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ишић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функционалн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лич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стоименим ензимом јетре, али се имунолошки и генетски значајно разликују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имер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вака подјединица садрж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иридоксал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Активни су само димерни облици ензим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929360" cy="3070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28600" y="457200"/>
            <a:ext cx="87138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хомополимер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имарна функција да организм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езбед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“брзу” енерг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зерва угљених хидрата за регулисање гликемије у људском организ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79280" y="1051200"/>
            <a:ext cx="896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њ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иране гликоген фосфорилаз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у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јетри). П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оме се д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фосфорили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а разградња тј. ув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органск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осфор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њем алфа-1,4 гликозидних веза из гликогена се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нередукуј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г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раја, одва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одговарај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број молекул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укозо-1 фосфат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Glikogen (n) + Pi &lt;-----&gt;Glikogen (n-1) + Glukozo-1-fosf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124000" y="3886200"/>
            <a:ext cx="4824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52280"/>
          <a:ext cx="8915400" cy="6553440"/>
        </p:xfrm>
        <a:graphic>
          <a:graphicData uri="http://schemas.openxmlformats.org/drawingml/2006/table">
            <a:tbl>
              <a:tblPr/>
              <a:tblGrid>
                <a:gridCol w="685800"/>
                <a:gridCol w="1757520"/>
                <a:gridCol w="1923840"/>
                <a:gridCol w="4548240"/>
              </a:tblGrid>
              <a:tr h="3906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с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и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достатак ензи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иничка сл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7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икоген син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; хиперкетонемија; рана см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161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on Gierke-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укозо-6-фосфа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а у јетри и бубрежним тубулима; хипогликемија; лактатн аацидоза; кетоза; хиперлипид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426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анспортер глукозо-6-фосфата у ендоплазматски ретикулу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a; неутропенија и смањена функција неутрофила која доводи до повратних инфекц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06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мпе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зозомска α1,4 и  α1,6 глукозид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 ау лизозомима: јувенилни облик, мишићна хипотонија, смрт због срчаног застоја пре друге године; адултни облик, мишићна дистроф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орбеова или Корије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де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 у гладовању; хепатомегалија у детињству; накупљање карактеристичних разгранатих полисахари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50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митирана декстри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и 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IIa, али без мишићне слаб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5428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дерсен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спленомегалија; накупљање полисахарида с малим бројем места гранања; смрт због затајења срца или оштећење јетре у првој години жив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c Ardle-ов синдр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 висок висок мишићни гликоген (2,5-4%); ниска концентрација лактата у крви након вежб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рс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ру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и еритроцитна фосфофруктокиназа-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висок мишићни гликоген (2,5-4%); ниска концентрација лактата у крви након вежбања; хемолитичка ан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7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792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и мишићна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 и мишићима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43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АМР- зависна протеин киназ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1"/>
          <p:cNvSpPr/>
          <p:nvPr/>
        </p:nvSpPr>
        <p:spPr>
          <a:xfrm>
            <a:off x="1971720" y="1589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к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ање ланца полимера гликогена т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ве до оног тренутк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ок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 приб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месту гранања главног ланц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тј. месту где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лфа-1,6 гликозид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ве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а растоја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д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4 гликозил остатк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да дел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 трисахарид трансфераз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трисахарадни сегмент преноси на главни ланац, који се прод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прем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ња три гликозил остатка, место гранања је доступно дејств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а дегранања (амило-1,6-глукозидаза)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алфа-1,6 гликозидну везу. То се одвија хидролит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м путем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обија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се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олекул Д-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не глукоз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-фосфат.</a:t>
            </a:r>
            <a:r>
              <a:rPr b="0" lang="en-AU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8883n23_15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6062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898200" y="189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Трисахарид трансфер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700360" y="5950080"/>
            <a:ext cx="2303280" cy="307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51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 глукозо-1-фосфат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ит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пусти инт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лијски простор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крв, нит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иректно да се користи као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ергетски материјал, јер се не разл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гликолизом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то је неопходно да се под 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глукомутаз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веде у глукозо-6-фосфат кој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се укљ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лизу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о-6-фосфат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прикљ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ентозо-фосфатном пу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ко ензим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укозо-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-дехидроген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 стварањ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NADPH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пентоз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5334120" y="1295280"/>
            <a:ext cx="3394080" cy="3888000"/>
            <a:chOff x="5334120" y="1295280"/>
            <a:chExt cx="3394080" cy="3888000"/>
          </a:xfrm>
        </p:grpSpPr>
        <p:pic>
          <p:nvPicPr>
            <p:cNvPr id="191" name="Picture 4" descr=""/>
            <p:cNvPicPr/>
            <p:nvPr/>
          </p:nvPicPr>
          <p:blipFill>
            <a:blip r:embed="rId1"/>
            <a:srcRect l="0" t="22116" r="53132" b="38069"/>
            <a:stretch/>
          </p:blipFill>
          <p:spPr>
            <a:xfrm>
              <a:off x="5334120" y="1511280"/>
              <a:ext cx="3394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Oval 7"/>
            <p:cNvSpPr/>
            <p:nvPr/>
          </p:nvSpPr>
          <p:spPr>
            <a:xfrm>
              <a:off x="6126120" y="4103640"/>
              <a:ext cx="2590920" cy="1079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Oval 8"/>
            <p:cNvSpPr/>
            <p:nvPr/>
          </p:nvSpPr>
          <p:spPr>
            <a:xfrm>
              <a:off x="7421760" y="1295280"/>
              <a:ext cx="792000" cy="647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28600" y="3808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њој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е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бубрезима (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М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ази се ензим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6-фосфат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разл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дефосфорилише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о-6-фосфат до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која одлази у циркулац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за одржавање гликем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380880" y="2743200"/>
            <a:ext cx="8137440" cy="3384360"/>
            <a:chOff x="380880" y="2743200"/>
            <a:chExt cx="8137440" cy="3384360"/>
          </a:xfrm>
        </p:grpSpPr>
        <p:pic>
          <p:nvPicPr>
            <p:cNvPr id="196" name="Picture 5" descr=""/>
            <p:cNvPicPr/>
            <p:nvPr/>
          </p:nvPicPr>
          <p:blipFill>
            <a:blip r:embed="rId1"/>
            <a:srcRect l="0" t="38555" r="0" b="42183"/>
            <a:stretch/>
          </p:blipFill>
          <p:spPr>
            <a:xfrm>
              <a:off x="664560" y="3057480"/>
              <a:ext cx="78537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8"/>
            <p:cNvSpPr/>
            <p:nvPr/>
          </p:nvSpPr>
          <p:spPr>
            <a:xfrm>
              <a:off x="380880" y="2743200"/>
              <a:ext cx="3690000" cy="14166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1234080" y="4789440"/>
              <a:ext cx="2932560" cy="13381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Веза  гликогенезе и гликогенолизе са     осталим метаболичким путевим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2800" y="1844280"/>
            <a:ext cx="8431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Гликоген се разграђује и настаје из глукозо 1 фосфат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 Глукозо-1-фосфат до глукозе-6-фосфа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осфоглукомутазна реверзибилна реакциј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3. Од глукозо-6-фосфата до глукозе (само ЈЕТРА и БУБРЕЗИ </a:t>
            </a:r>
            <a:r>
              <a:rPr b="0" lang="en-AU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за циркулацију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4. Глукозо-6-фосфат из глукозе преко киназа (хексокиназе или глукокиназе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5. Од глукозо-6-фосфата до и од гликолизе (катаболизам) и глуконеогенезу (анаболизам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6. Од глукозо-6-фосфата до пентозног пута (нереверзибилно) за редукујуће агенсе  (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ADPH)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рибозу за нуклеинске кисели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фосфорилазе</a:t>
            </a: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010120" cy="1809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539640" y="292104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а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форма гл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ог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н фосфорилазе се ј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 назив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Т-форма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 (tense)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,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док активна форма је добилa име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Р-фoрмa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(relax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1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се нормално везује з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у Т-форму фосфорилазе-б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Везивањeм AMP-a долази до комформационих промена код фосфoрилазе-б ,такo да прелази у Р-фoрму или активну фoрму –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БЕЗ ФОСФОРИЛАЦ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Овај алостеријски ефeкaт AMP је неопходан за енергетскe потрeбe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Л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Глукоза алостеријски инхибира фосфорилазу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тако активира трансформацију активне Т-форме у инактивну Р-форм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синтазе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92960" cy="1725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01480" y="3716280"/>
            <a:ext cx="864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о акумулирањ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зе-6-фосфат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лази до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аци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ације глукозе-6-фосфата у гликоген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а–6-фосфат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лостеријск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везуј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фосфорилисану инактивну гликоген синтазу-д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активну фосфорилисану гликоген-синтазу (без дефосфорилације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-304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егулација гликогенезе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гликогенолизе</a:t>
            </a:r>
            <a:r>
              <a:rPr b="0" lang="sr-Latn-B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валентним модификациј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93960" y="1218960"/>
            <a:ext cx="5808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886e0"/>
                </a:solidFill>
                <a:latin typeface="Arial"/>
              </a:rPr>
              <a:t>   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орилациј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фосфорилација гликоген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интаз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анаболизам гликогена)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гликоген-фосфорилазе (катаболизам гликоген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стоје два облик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неактивни облик – 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ефосфорилисани, тј. активни облик - 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синтез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и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из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теин фосфатазе и протеин киназе-А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638680" y="1773360"/>
            <a:ext cx="3505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КТУРА ГЛИКОГЕ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560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осто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ва облика гликоген фосфорилазе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648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активан облик – 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дефосфорилисани, тј. неактивни облик - б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разградњ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коген фосфорилазе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из гликоген синтазе -б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ротеин фосфатазе и фосфорилазе киназе-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29200" y="144792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Хормонска регулација</a:t>
            </a:r>
            <a:r>
              <a:rPr b="0" lang="en-AU" sz="4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укаго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(адреналин)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Хепатоцити поседују 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1 и 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2 рецепторе за катехоламине, као и рецепторе за глукаг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једини протеински хормон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глу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гон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оби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гликоген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активирају гликогенолизу так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то се везују за своје рецепторе са екст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лијске стране плазма мембра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 везивању хормона за свој рецептор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денилат циклаз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мбрански ензим, се активир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тализује синтезу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ог АМП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3',5'-АМП) из АТП-а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TP --&gt; cAMP + PPi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и АМП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ктивира протеин киназу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регу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инактивацију гликоген синт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нхибицију гликогенез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ктивацију фосфорилазе кин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активацију гликогеноли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акле, за време гладовања (глукагон) или у стресним ситуацијама (епинф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н) ,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р који се налази као резерва у гликогену се мобил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користи као гориво у организм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808560"/>
            <a:ext cx="882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Инсулин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з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тагонис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фекат , супротан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ефекту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дренали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сулин фаворизује тал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ње гликогена ка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рне резерве так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то активира синтезу гликогена (гликогенезу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бира деградацију гликогена (гликогенолизу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везивања за свој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ирозин-киназн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ецептор, инсулин активир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тирозин кина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је везана за инсулински рецептор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о доводи до активације разл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х сигналних трансдукционих путева који , на крају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ирају протеин фосфатазу 1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теин фосфатаза 1 с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одваја од фосфорилаз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атализује дефосфорилацију гликоген синтазе до њен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не форм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авориз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синтезу глик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48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20" y="1341360"/>
            <a:ext cx="88930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алцију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Ј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α1 рецeптоre хепатоцита везујe сe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норадреналин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штo пoкрећe мобилизациј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Ca 2+ из митохондриј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пораст концентрације овог катјона активира калмодулинску компoнен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нaзе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за фосфорилише гликоген фосфорилазу б, у активни облик, што вод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разлагању гликоген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С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 цик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м AMP-u, Ca2+ делује као секундарни гласник који активира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фосфорилазу кина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ејство Ca2+ на фосфорилазу киназу  фаворизује гликогеноли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781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962720" y="33012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лукоза у крви: 3,5 - 6,3 mmol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221120" y="1152360"/>
            <a:ext cx="73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гљенихидра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хране 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ју концентраци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з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емиј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по неколико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95680" y="220968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89720" y="3357720"/>
            <a:ext cx="89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оген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 јетри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залихе се исцрпљују након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495680" y="396252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941760" y="491652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ње гликемије зависи од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инт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е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де но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оцес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НЕОГЕНЕЗ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у јетр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22120" y="476280"/>
            <a:ext cx="63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АЊА У КОЈИМА СЕ ИНТЕЗИВНО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 ГЛУКО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50920" y="2133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ладовањ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т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се резерве глукоз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зак физ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напо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мобил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е липид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гљенихидра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ресна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364480" y="2970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557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907920"/>
            <a:ext cx="9058320" cy="70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r>
              <a:rPr b="1" lang="en-AU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процес синтезе глукозе 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еугљенохидратних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омпоненти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ајв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ији извори су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пируват (гликолиза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лактат (анаеробн</a:t>
            </a:r>
            <a:r>
              <a:rPr b="0" lang="sr-CS" sz="2200" spc="-1" strike="noStrike" u="sng">
                <a:solidFill>
                  <a:srgbClr val="ffff00"/>
                </a:solidFill>
                <a:uFillTx/>
                <a:latin typeface="Arial"/>
              </a:rPr>
              <a:t>и продукт гликолизе)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о 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ерол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(масно ткиво - из липида),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мино киселине (разградњ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них протеина - аланин, серин,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ин, валин, аргинин итд.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авне улазне т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е з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уконеогенезу су 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ирув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Дихидроацетон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осф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5" descr="gluconeo"/>
          <p:cNvPicPr/>
          <p:nvPr/>
        </p:nvPicPr>
        <p:blipFill>
          <a:blip r:embed="rId1"/>
          <a:stretch/>
        </p:blipFill>
        <p:spPr>
          <a:xfrm>
            <a:off x="5580000" y="4149720"/>
            <a:ext cx="3274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252440" y="37296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-1800" y="1413000"/>
            <a:ext cx="946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ећина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међупроизвода циклуса трикарбонских 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ож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а послужи као полазни материјал глуконеогенез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и ти међупроизводи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разлажу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клусом трикарбонк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лни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о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оксалацет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 ова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кључуј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уконеогене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једине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минокисели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аланин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ансаминацијом у м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Глукоза-Аланин циклус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а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езазотни остатак тип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имарно се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јетр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, мада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а га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озак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атериц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ог биљном скробу, п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сто зов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отињски скроб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цитоплазми се налази у облику гранул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гра веома в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улогу у ц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су глукозе  у јетр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рмира енергетске резерве које 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у врло брзо да се разл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о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скористе у организму, ако су потребе за глукозом 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95200" y="18900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0" y="923760"/>
            <a:ext cx="882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Лакт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з крви се трансформ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у у јетри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тз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оријевом цикл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ријев циклус је кружење лактат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настај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мишић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аеробној гликолиз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Лактат дифундује у крвоток, а зат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 јетре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тра трансформише лактат у пируват, а затим у глуко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л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глукоз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раћа у крвоток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дакл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же да буде иско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а од стра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шићних ћел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ускладиштена као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гликог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80280" y="62064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-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0" y="1413000"/>
            <a:ext cx="91440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цер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(добијен разградњом тр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цилг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ице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 у масном ткиву) се директн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ристи за синтезу глукозе и то фосфорилацијом до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глицерол-3 –фосфат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помоћу   </a:t>
            </a:r>
            <a:r>
              <a:rPr b="0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глицерол киназе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   дехидрогенацијом д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ихидроацетат  фосфата (DHAP)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моћу глицерол-3-фосфат дехидрогена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церол кин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је ензим присутан 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бубрез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асном ткиву!!!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95280" y="4586400"/>
            <a:ext cx="8424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50920" y="1587600"/>
            <a:ext cx="4038480" cy="52704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396000" y="476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упстрати за глуконеогенезу се укљ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ју у процес САМ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одр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ним мести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50360" y="371520"/>
            <a:ext cx="44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50920" y="1484280"/>
            <a:ext cx="9186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авном се одвија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ЈЕТРИ и бубре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зима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(1/10 због мање масе бубрег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5e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рло мало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г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келетни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но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упрот синтези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ак и скелетни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у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трошачи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752480" y="157320"/>
            <a:ext cx="58975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47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ли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ије реверзибила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роцес, због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баријера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немогућавају просту реверзију,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д пирувата, или лакта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о глукозе.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и иреверзибилне реакције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22360" y="3124080"/>
            <a:ext cx="844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уко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ик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хексокиназа</a:t>
            </a:r>
            <a:r>
              <a:rPr b="0" lang="en-A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6-фосфата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1,6-дифосфат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фруктокиназа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осфоенолпирув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ируват.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пируват кина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2057400" y="3352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3809880" y="42670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657600" y="5181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580000" y="1066680"/>
            <a:ext cx="3564000" cy="5791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77040" y="298440"/>
            <a:ext cx="907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ри баријер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премостиве, уз присуство одговарајући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Пируват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у” ензи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ЕП карбокси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фруктокиназ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1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е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р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1,6- б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Хексонизу “замењује” енз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к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-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6-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0"/>
            <a:ext cx="75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Конверзија пирувата у фосфоенолпируват-ПЕП</a:t>
            </a:r>
            <a:r>
              <a:rPr b="0" lang="en-A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-3240" y="1593720"/>
            <a:ext cx="90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што пируват високоенергетски органофосфа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е постоји могућност директне конверзи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играва с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ва корака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Карбоксилација пирувата у оксалоацетат 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Декарбоксилација и фосфорилација оксалацетата у ПЕП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ОСФОЕНОЛПИРУВАТ - К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-8280" y="345960"/>
            <a:ext cx="82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ад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осте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у групу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БИОТИ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752480" y="1019160"/>
            <a:ext cx="5543640" cy="657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0" y="2066760"/>
            <a:ext cx="105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о, пируват прелази у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е хепатоцита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убулоци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затим следи карбоксил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914400" y="3297240"/>
            <a:ext cx="6781680" cy="512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yrCarbBiotinLehn4fig14-17a"/>
          <p:cNvPicPr/>
          <p:nvPr/>
        </p:nvPicPr>
        <p:blipFill>
          <a:blip r:embed="rId3"/>
          <a:stretch/>
        </p:blipFill>
        <p:spPr>
          <a:xfrm>
            <a:off x="27432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26240" cy="1870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974880" y="2541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 - механизам реакц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54440" y="3213000"/>
            <a:ext cx="5379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арбокси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ктивира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носик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карбоната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руват (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з присуство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Mg </a:t>
            </a:r>
            <a:r>
              <a:rPr b="1" lang="en-AU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ацетил-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oA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астаје оксалацета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4621" t="0" r="17138" b="0"/>
          <a:stretch/>
        </p:blipFill>
        <p:spPr>
          <a:xfrm>
            <a:off x="4876920" y="1446120"/>
            <a:ext cx="402084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228600" y="1295280"/>
            <a:ext cx="4176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Хепатоцити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10% гликогена одмах после оброк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сад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¾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купног гл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гена у организм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ко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 бубрезима, у мозг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леукоцити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терица так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твара резерве гликогена за време трудн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за потребе фетуса</a:t>
            </a:r>
            <a:r>
              <a:rPr b="0" lang="en-AU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639040" cy="39542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685440" y="92376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ом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ируват карбоксилазе ко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зује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тке амино киселин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ли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203640" cy="493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160" y="549360"/>
            <a:ext cx="884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неогенеза зап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њ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итохондрија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тављ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итоплазм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 настали оксалоацет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пролази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роз унутрашњ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ембрану митохондриј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а,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во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редукује 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малат у матрик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митоходн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ксалоацетат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се редуку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ал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ловање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ал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ал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дехидрогеназ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НАДХ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Малат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избацује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митохондр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на принципу његов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јонске замене са цитратом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73080" y="333360"/>
            <a:ext cx="72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нтеза ПЕП - а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из оксалацетата преко ма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796000" y="1700280"/>
            <a:ext cx="1800360" cy="500544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195720" cy="6524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74160" y="1289160"/>
            <a:ext cx="566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4. У цитосолу, дејство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цитозолне </a:t>
            </a:r>
            <a:br>
              <a:rPr sz="2400"/>
            </a:b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малат дехидрогеназе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алат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ј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у оксалацетат (NAD+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. Да би из оксалацетата наста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уанозинтрифосфат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GTP)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акцију катализу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 карбоксикиназа.</a:t>
            </a:r>
            <a:r>
              <a:rPr b="0" lang="en-AU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862280" y="4762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за ПЕП - а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651640" y="914400"/>
            <a:ext cx="1892160" cy="541008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928800" y="6206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РУВАТ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3276720" y="98100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653440" y="6858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сфоенол-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311120" y="3135240"/>
            <a:ext cx="6653160" cy="197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ЦЕ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конверзије пирув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један молeкуl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 један молекул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 + ATP + GTP + H</a:t>
            </a:r>
            <a:r>
              <a:rPr b="1" lang="en-AU" sz="24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O ---&gt; ПЕП + ADP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125440" y="1268280"/>
            <a:ext cx="52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сфо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ол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ируват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1332360" y="2541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ут синтезе ПЕП из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а преко лакт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659640" y="1371600"/>
            <a:ext cx="2484360" cy="533412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160" y="1206360"/>
            <a:ext cx="57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случају ка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доб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 цитосол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(на слици са десне стране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олпируват у митохондријима,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моћ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тохондријске фосфоен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- пируват-карбоксикина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удући 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тосолу “осигурава” NAD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глуконеогенезу, није потреб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ебацивање” NADH из митохонд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цитосо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472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14280" y="260280"/>
            <a:ext cx="855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акције глуконеогенезе од ПЕП до синтезе фруктозо 1,6 бифосфа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у реверзибилне и идентичне реакцијама гликоли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73400" y="280656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Enol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Fosfoglicerat mut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408040" y="4290840"/>
            <a:ext cx="160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Gliceraldehid fosfa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dehidrogen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340000" y="2708280"/>
            <a:ext cx="4464000" cy="2160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1908000" y="2708280"/>
            <a:ext cx="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ine 8"/>
          <p:cNvSpPr/>
          <p:nvPr/>
        </p:nvSpPr>
        <p:spPr>
          <a:xfrm flipV="1">
            <a:off x="7164360" y="2708280"/>
            <a:ext cx="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9"/>
          <p:cNvSpPr/>
          <p:nvPr/>
        </p:nvSpPr>
        <p:spPr>
          <a:xfrm rot="5400000">
            <a:off x="400680" y="34750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10"/>
          <p:cNvSpPr/>
          <p:nvPr/>
        </p:nvSpPr>
        <p:spPr>
          <a:xfrm rot="16200000">
            <a:off x="6483960" y="32425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ик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4916520" y="5346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osfoheksozo izomer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419640" y="5084640"/>
            <a:ext cx="3744720" cy="865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971640" y="260280"/>
            <a:ext cx="74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Друг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фосфорилација фруктозо-1,6-дифосф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фруктозо-6-фосф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rcRect l="0" t="47944" r="0" b="0"/>
          <a:stretch/>
        </p:blipFill>
        <p:spPr>
          <a:xfrm>
            <a:off x="2743200" y="2514600"/>
            <a:ext cx="4191120" cy="1838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447480" y="1600200"/>
            <a:ext cx="80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Fructose 1,6-bisphosphate + H2O         Fructose 6-phosphate + P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34880" y="4508640"/>
            <a:ext cx="886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За синтезу фруктозо-1,6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би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ата потребна су полазн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молекула фосфоенолпирува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Фруктозо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1,6-б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хидролитички уклањ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ортофосфа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са C1 атома фруктозо-1,6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и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ај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фрукт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056400" y="19051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sr-Latn-CS" sz="1600" spc="-1" strike="noStrike" u="sng">
                <a:solidFill>
                  <a:srgbClr val="ffffff"/>
                </a:solidFill>
                <a:uFillTx/>
                <a:latin typeface="Arial"/>
              </a:rPr>
              <a:t>Фруктозо </a:t>
            </a:r>
            <a:r>
              <a:rPr b="1" lang="en-AU" sz="1600" spc="-1" strike="noStrike" u="sng">
                <a:solidFill>
                  <a:srgbClr val="ffffff"/>
                </a:solidFill>
                <a:uFillTx/>
                <a:latin typeface="Arial"/>
              </a:rPr>
              <a:t>1,6 - бифосфатаза</a:t>
            </a:r>
            <a:r>
              <a:rPr b="0" lang="en-A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1115640" y="549360"/>
            <a:ext cx="70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Тре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ћ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ефосфорилација глукозо-6-фосфата у глуко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257800" cy="18478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598680" y="3860640"/>
            <a:ext cx="8415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дејством ензим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о-6-фосфатазе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ога има у великој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личини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јетри и бубрезима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(ендоплазматски ретикулум ЕР)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</a:t>
            </a: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е хидролитицки дефосфори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у глукоз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Глукоза напушта ћелијску средин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епатоцита, или тубулоци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одлази у циркулацију. 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се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налаз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масно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ткиву и скелетним мишић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тако да наведена ткив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тичу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регулисање гликемиј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5491080" cy="2084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1452600" y="72072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станак глукозе из глукозе-6-фосф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50920" y="170028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фосфорилација глукоз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6-фосфа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припре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за  експорт ван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л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кљ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активациј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их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рансмембранских протеи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м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их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ембрани ЕР-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Т1, Т2, Т3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3600" y="5754600"/>
            <a:ext cx="83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6-фосфатаз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е налаз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амо у ЈЕТР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њ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брезима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 У М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23640" y="533520"/>
            <a:ext cx="8818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Енергетски ефекти глуконеогенезе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бирна реакција конверзије пирувата у глукозу приказана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дначин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 пируватa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+ 4 ATP + 2 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NADH + 6 H2O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+ 4 ADP + 2 GDP + 6 P i +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NAD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H+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47840" y="4038480"/>
            <a:ext cx="869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енергетском смислу, чини се да 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неогенеза расипнич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це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пошто с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трош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НЕТО 4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молекуле високоенергетски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6 АТП - синтеза глукозе – 2АТП разградњом глукозе)</a:t>
            </a: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ђутим, у организму постоје одређене ситуације, као што 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ретећ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ипогликемиј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ли када наста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екомерно ослобађањ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лактат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д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а мора да се синтетиш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чак и по це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ергетског дефици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iabetes-glucose-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82880" y="549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419640" cy="4537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80360" y="1628640"/>
            <a:ext cx="495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гула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ципрочна у односу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гулацију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тако 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ова два метаболичка пу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не могу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одвијати истовреме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-10080" y="4437000"/>
            <a:ext cx="787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Фруктоза-1,6-бис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нхибира фруктозу-1,6 бисфосфатаз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Цитрат активира фруктозу-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,6-бисфосфатаз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руктоза 2,6 бифосфат инхибира фруктозу-1,6-бисфосфата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984680" y="22068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-747000" y="3284640"/>
            <a:ext cx="638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cetil-Co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ктиви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фосфоенол 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4114800" cy="4370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264240" y="1341360"/>
            <a:ext cx="3720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 пирув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арб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58800" y="16668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65800" y="115920"/>
            <a:ext cx="2704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мање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83356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729080" y="1123920"/>
            <a:ext cx="21801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сулин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бет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906640" y="1916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33400" y="24908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29800" y="2563920"/>
            <a:ext cx="25506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инсули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906640" y="3213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735200" y="3716280"/>
            <a:ext cx="23173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90664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731960" y="4579920"/>
            <a:ext cx="24940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 пермеабилнос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мбрана за глукозу (јетра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,масно ткиво,мозак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90664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878120" y="6091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727280" y="6019920"/>
            <a:ext cx="3033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крви у ткив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интеза гликоге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612720" y="148428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611280" y="148428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960" y="335772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9"/>
          <p:cNvSpPr/>
          <p:nvPr/>
        </p:nvSpPr>
        <p:spPr>
          <a:xfrm flipH="1">
            <a:off x="1547280" y="3860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539640" y="414972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39640" y="6165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540040" y="1052640"/>
            <a:ext cx="2245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глукаго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лф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44364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443640" y="17748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219640" y="2205000"/>
            <a:ext cx="25704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глукаго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221080" y="3068640"/>
            <a:ext cx="28400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аденилат циклазе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станак cAM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26480" y="3933720"/>
            <a:ext cx="18738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КИН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223240" y="4581360"/>
            <a:ext cx="2251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фосфорил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6948360" y="4076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312680" y="378936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хибициј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6012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41656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145840" y="5789520"/>
            <a:ext cx="2908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Разградња гликогена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ткива у крв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гулација гликемије (ЈЕТР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5"/>
          <p:cNvSpPr/>
          <p:nvPr/>
        </p:nvSpPr>
        <p:spPr>
          <a:xfrm>
            <a:off x="615636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оцес синтезе гликоге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ива се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кализација процеса гликогенезе – цитосол (пре свега хепатоцита и ћелија скелетних мишић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интеза гликоген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се одвијати у организму, у сл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је концентрација глукозе и/или АТП по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синтезу гликогена потребан је почетни сегмент гликогена - ГЛИКОГЕНИН, који је гликопротеинске природе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и глукозил остатак везује се за полипептидни ланац гликогенина, са чијим хидрокси аминокиселинама (серин, треонин, тирозин) успоставља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О-гликозидну ве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Наредни остатак глукозе надовезује се на претходни стварањем α-1,4-гликозидне ве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ГЕНИ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стаје сачуван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ма гладовањ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да преовлада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олиз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5928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8:08:37Z</dcterms:created>
  <dc:creator>XP</dc:creator>
  <dc:description/>
  <dc:language>en-US</dc:language>
  <cp:lastModifiedBy>snskg1</cp:lastModifiedBy>
  <dcterms:modified xsi:type="dcterms:W3CDTF">2022-08-23T09:18:57Z</dcterms:modified>
  <cp:revision>93</cp:revision>
  <dc:subject/>
  <dc:title>Slide 1</dc:title>
</cp:coreProperties>
</file>